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7A298-E9EC-485F-AD76-0F6D3F05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88FCC-7B07-4013-A920-4B46F44B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C2168-6797-487C-98EC-B1CF2982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7AE8F-4A04-4A2F-BFB6-C416B579D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2B47-DFB9-4E23-A304-53A27E1A7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709F-6FB1-45C6-90FD-D516BB2C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12F9-EF77-43B1-AA1D-2FE7ACD8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CCEE-A802-439B-B0AF-A6E3CE11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58B0-3792-471E-A246-C1B94DF1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0024-28A0-414E-BF78-3041E977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8247-E3C9-4EC2-BBAC-CDCFDC49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826FA-685D-48B5-9262-E63B4A2A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C071-7437-457C-83DB-1551C55B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ADFF-7E51-4FCD-AB80-66D5C54C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B49B-D0ED-4008-8CD3-DACE5DE5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1849-6C1E-4807-AC31-9F72AABBD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B18B-24CA-4F56-BF05-23F3819C1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F56FF-7560-4603-AA5B-14B3588F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575A2-AA8D-4727-8361-E82EA977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B08F5-407F-41E5-B641-6BADD0FB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361DC-D5B5-4823-9BB7-EA4C6705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500F5-F782-4F88-A90C-9517BB72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EFAD0-587D-45BF-99D0-177F0E8E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74EC6-F31B-425A-8347-0E202CBA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68B3-79F1-4D64-BF72-56D851C569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FB2C-A5AE-47CA-882D-3727CF6834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literal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literal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type of monoalphabetic cipher is called a multiliteral cip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other weak monoalphabetic cipher that is worth examining because it tries to do something unique - it replaces each plaintext letter with a pair of letter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ulting ciphertext is twice as large as the plaintext and looks very stran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90197-38D4-4CB9-8B47-8C26E52A2F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literal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4640" y="1851120"/>
            <a:ext cx="873612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ltiliterial Cipher key is a 5 x 5 matrix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ve columns and the five rows are each labeled by the same 5 letter keywor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keyword cannot have any repeating letter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lphabet is written in the matrix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the matrix has only 25 slots but the alphabet has 26 letters, so the letters “i” and “j” occupy the same ce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if the keyword is “codes” then the key matrix beco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80000" y="4734000"/>
            <a:ext cx="1826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b c d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 g h i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 m n o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q r s t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 w x y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566800" y="4419720"/>
            <a:ext cx="2139480" cy="2275920"/>
            <a:chOff x="2566800" y="4419720"/>
            <a:chExt cx="2139480" cy="2275920"/>
          </a:xfrm>
        </p:grpSpPr>
        <p:sp>
          <p:nvSpPr>
            <p:cNvPr id="119" name=""/>
            <p:cNvSpPr/>
            <p:nvPr/>
          </p:nvSpPr>
          <p:spPr>
            <a:xfrm>
              <a:off x="2879640" y="441972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 o d e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76160" y="4724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04840" y="4809960"/>
              <a:ext cx="0" cy="18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76160" y="5095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76160" y="5476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66800" y="5829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76160" y="6200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04840" y="4800240"/>
              <a:ext cx="1724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889600" y="48578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  e  l 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27760" y="51912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d cs dc 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33800" y="5248440"/>
            <a:ext cx="9050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36880" y="4830840"/>
            <a:ext cx="167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36880" y="4830840"/>
            <a:ext cx="0" cy="174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08520" y="5335560"/>
            <a:ext cx="101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6988E-5F9C-48C6-9407-346E79E43A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7T02:47:38Z</dcterms:modified>
  <cp:revision>48</cp:revision>
  <dc:subject/>
  <dc:title>CAP Cryptographic Analysis Program</dc:title>
</cp:coreProperties>
</file>